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3D5-F6DB-49B9-BD87-87C96E9F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83C-5A74-49BF-BA17-54828EFC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155-3F58-419B-91DC-42843D9E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99C-4F94-4369-82C8-DD6A1227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9BC-D5AE-475C-AF7A-367FF33A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0DD-C4D1-410D-ABBD-9E904E2E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AAB-B574-48DE-A446-66E2D5D0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ED9-6E38-464C-B5AE-30A66B7E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7FA-5C55-494E-AA38-B9F52632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D4E-4726-42D4-A495-8D96D5F6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A97-CEB5-4939-8576-A3AB012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146-5F0C-4B40-821D-EC8B4A96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4BEB-95C6-40A1-8E67-20B0C6E31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sychological Disorders Chap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Blair-Broeker_CO12"/>
          <p:cNvPicPr/>
          <p:nvPr/>
        </p:nvPicPr>
        <p:blipFill>
          <a:blip r:embed="rId1"/>
          <a:stretch/>
        </p:blipFill>
        <p:spPr>
          <a:xfrm>
            <a:off x="1219320" y="1905120"/>
            <a:ext cx="6858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usions of Pers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se beliefs that people are out to get the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ieve they are being followed, the phone is wiretapped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usions of Sin or G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se beliefs that the person is responsible for some mis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usions of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se beliefs of being controlled by outside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uc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 perceptions that are symptoms of schizophrenia or other serious psychological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hallucin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ory (hearing vo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(seeing th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tile (feeling skin sens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lso have distorted smell and t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ppropriate Emotions/Behav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at affect – showing little or no emotional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d salad – nonsense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xy flexibility – the person’s arms and legs will remain in place after being moved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chizophrenia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ypes of Schizophre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Blair-Broeker_fi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9388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noid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zed by delusions, especially grandeur and persecution.  Auditory and other hallucinations support the delu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lair-Broeker_31UN03"/>
          <p:cNvPicPr/>
          <p:nvPr/>
        </p:nvPicPr>
        <p:blipFill>
          <a:blip r:embed="rId1"/>
          <a:stretch/>
        </p:blipFill>
        <p:spPr>
          <a:xfrm>
            <a:off x="5178600" y="1752480"/>
            <a:ext cx="3965400" cy="3713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412240" y="5791320"/>
            <a:ext cx="31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utiful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atonic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zed by variations in voluntary m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atonic excitement – rapid movements with delusions and halluci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atonic stupor – little or no activity, movement, or speech (waxy flexibil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organized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zed by bizarre behavior, delusions, and hallucin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y disturbed thought and language (word sal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, Schizophrenia, and Personality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ule 3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ifferentiated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mptoms that don’t clearly fit into one of the other types of schizophrenia but still show clear symptoms of schizophr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chizophrenia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 -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izophrenia tends to run in famil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tics appears to produce a predisposition (increased likelihood) to develop schizophren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Blair-Broeker_fig"/>
          <p:cNvPicPr/>
          <p:nvPr/>
        </p:nvPicPr>
        <p:blipFill>
          <a:blip r:embed="rId1"/>
          <a:stretch/>
        </p:blipFill>
        <p:spPr>
          <a:xfrm>
            <a:off x="5184720" y="3505320"/>
            <a:ext cx="3578400" cy="3070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823120" y="45720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ain Quadru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Blair-Broeker_fig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21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and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 – Bra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in structure of those with schizophrenia is different than the normal b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se with schizophrenia have smaller amounts of brain tissue and larger fluid filled spa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halamus is smaller in those with schizophren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 – Brai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ain of those with schizophrenia operates differently than the normal b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rontal lobes show less activ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se with schizophrenia have a larger number of receptor sites for the neurotransmitter dopam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 – Brai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Blair-Broeker_31UN04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 – Prenatal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iral infection during the middle of pregnancy may increase schizophrenia ris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logic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main are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urbed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unclear whether these are causes or consequences of schizophren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chizophrenia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ociative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orders in which the sense of self has become separated (dissociated) from previous memories, thoughts, or feel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Dissociative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main typ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ve Am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ve Fu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ve Ident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Blair-Broeker_fig"/>
          <p:cNvPicPr/>
          <p:nvPr/>
        </p:nvPicPr>
        <p:blipFill>
          <a:blip r:embed="rId1"/>
          <a:stretch/>
        </p:blipFill>
        <p:spPr>
          <a:xfrm>
            <a:off x="0" y="1477800"/>
            <a:ext cx="9144000" cy="507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sociative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Amnes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ociative Amne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issociative disorder characterized by loss of memory in reaction to a traumatic e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soldiers in comb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Fug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ociative Fu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issociative disorder characterized by loss of identity and travel to a new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son may develop a new identity and begin a new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ssociative Identity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ociative Ident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re and controversial dissociative disorder in which an individual experiences two or more distinct and alternating perso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erly called multiple perso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ociative Ident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alities can be different ages, sex, and self perception of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Faces of 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b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Blair-Broeker_31UN02b"/>
          <p:cNvPicPr/>
          <p:nvPr/>
        </p:nvPicPr>
        <p:blipFill>
          <a:blip r:embed="rId1"/>
          <a:stretch/>
        </p:blipFill>
        <p:spPr>
          <a:xfrm>
            <a:off x="4724280" y="2743200"/>
            <a:ext cx="3454560" cy="3809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Blair-Broeker_31UN02a"/>
          <p:cNvPicPr/>
          <p:nvPr/>
        </p:nvPicPr>
        <p:blipFill>
          <a:blip r:embed="rId2"/>
          <a:stretch/>
        </p:blipFill>
        <p:spPr>
          <a:xfrm>
            <a:off x="533520" y="3809880"/>
            <a:ext cx="3809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up of severe disorders characterized by disorganized and delusional thinking, disturbed perceptions, and inappropriate emotions and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not one disorder but a family of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not “split personalit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curs in about 1% of the pop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ychological disorders characterized by rigid and lasting behavior patterns that disrupt social func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d into three clus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d to anx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odd and eccentric behavi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dramatic or impulsive behavi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lair-Broeker_fig"/>
          <p:cNvPicPr/>
          <p:nvPr/>
        </p:nvPicPr>
        <p:blipFill>
          <a:blip r:embed="rId1"/>
          <a:stretch/>
        </p:blipFill>
        <p:spPr>
          <a:xfrm>
            <a:off x="0" y="1501920"/>
            <a:ext cx="9144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ersonality Disorders Related to Anxie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ant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sensitive about being rejected that personal relationships become diffic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t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ave in clingy, submissive ways and displays a strong need to have others take care of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ersonality Disorders with Odd or Eccentric Behavio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noid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ws deep distrust of other people, which gets in the way of personal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than paranoid schizophr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izoid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detached from social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true hermits, preferring life alone and avoiding intimate interactions at all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ersonality Disorders with Dramatic or Impulsive Behavio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chizophrenia Disorders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ymptoms of Schizophre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31: Dissociative, Schizophrenia,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derline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hibit instability of emotions, self-image, behavior, and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ocial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ality disorder in which the person shows a lack of conscience for wrong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ws no respects for the rights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ually m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psychopathic or sociopathic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s of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mptoms of schizophrenia 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usions (false belief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llucinations (false percep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appropriate emotions or behavi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lair-Broeker_fi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109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 beliefs that are symptoms of schizophrenia and other serious psychological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major types of de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n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or g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usions of Grand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se beliefs that a person is more important than they really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ients may believe they are a famous person (e.g. Napole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2-02T17:09:49Z</dcterms:modified>
  <cp:revision>66</cp:revision>
  <dc:subject/>
  <dc:title>Psychology</dc:title>
</cp:coreProperties>
</file>